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7BDE-B64A-4945-AFCA-CC3E15DD3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E9FE-4508-4339-937B-9B02DE21D7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B076-261A-4F81-B95A-AD55DFD572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8AE0-3047-4D92-94DF-47955A9A00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2A5A-DDA2-4853-BA20-E0AD759CA2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966D-5878-43C5-9BF2-4E1D0241BD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4931-A35F-43BB-BCBA-CAA418DA21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8834-3C71-4305-8A0E-9810D5FC26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9088-C8EC-4FE9-8549-C614483A92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FD38-204C-4692-ACBE-EC464A9C47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AFD7-6F2A-4020-8EF6-2BDA8D8E76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0EC8-54E7-48CA-8879-AB656D50D4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30892-4DC0-4D3B-8B1D-D3F544049D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41CF-53D8-4EB4-B53A-88A842AA98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6A20-1CB2-4447-84C9-1978AA5FD1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7D7D-1D03-4FBF-940B-C139000673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252F-51BD-44BC-9D83-D4AE1AE3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4E00-56E3-4AE9-8766-64B6B742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082-1DA0-46BB-9EE1-702B2872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15C-A767-4C29-96AD-94747B1F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E42D-A49D-432E-95AB-0766D1F9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BB53-9F37-49E1-835B-4EA92AE0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C1A0-9D1B-4B2D-A3DD-3AB755C5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1CBD-7E5A-494D-A944-3C7C618E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A5C5-B548-4876-A988-522774F8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1796-724B-476A-9CE5-F92DFB02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337D-A095-4657-9B44-CB4AD74B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16B-4705-4916-A734-70080B0E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A01E-10F3-4383-AEBB-51005BDD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2DC3-939C-442C-8F89-7C62B945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DFFE-53C3-4968-BF43-B6E97F35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A155-1ABE-4745-8859-EEE0BE0B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FC49-BE4A-4E6C-A52C-8DFF12BC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8E26-1FC5-4E54-9D2D-555AAC80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FB9-0670-4293-A3A5-5B9AF7D6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DAC-24B0-4746-8B82-B083762F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961-8A4A-4C01-878C-A2413303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A65-0924-4F08-82EF-64060785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2EF-D70E-490A-AF7D-FF8BF223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AF33-D3AE-4E28-820C-44842404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59A4-3250-4413-9249-269B61947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308C-FEDC-43E0-A955-13A96BC6A0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UNIT 1 REVIEW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PEN NOTE QUIZ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OUT YOUR NOTES &amp; A PIECE OF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 QUESTIONS –MULTIPLE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9. Government where citizens choose a smaller group to govern on their behalf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irect democracy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representative democra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autocratic dictatorsh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oligarchic dictatorsh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0. Relating to races or groups of people who share common traits and custom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ethnic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e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riority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onst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4191120" cy="34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1. In North Korea, Kim Jong Il is better known as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Great Leader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ear Lea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ivine Leader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Benevolent 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4479840" y="-228600"/>
            <a:ext cx="47880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85400"/>
            <a:ext cx="853452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2. Which of the following terms is most closely associated with authoritarianism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irect democracy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representative democra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onstitutional mon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totalitarian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863280"/>
            <a:ext cx="853452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3. The study of the rights and duties of citizen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geography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ivics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history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soci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534520" cy="21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4. Which of the following is a step in the naturalization proces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05600" indent="-70560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filing a declaration of intention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05600" indent="-70560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applying for a driver’s lice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05600" indent="-70560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registering to vo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05600" indent="-70560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joining a political par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05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85400"/>
            <a:ext cx="853452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5. Due to its extreme isolation from the rest of the world, North Korea is known as th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hermit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ropaganda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eaceful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rosperous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34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ere the majority of people earn their living by providing a service rather than manufacturing a produc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manufacturing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B.  agricultural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.  service economy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.  mixed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A representative democracy where citizens choose their lawmaker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republic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regi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. commonwealth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. nation-st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A system in which government control extends to almost all aspects of people’s live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emocracy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totalitari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onstitutional monarc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republicanis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A person who moves permanently to a new countr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immigrant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tour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vacationer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diplo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20132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To gain or acquire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enforce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const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obt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prio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20132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6. A rule of conduct or belief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community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const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principle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de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7. The course of action the government takes in response to an issue or problem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ublic opin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ublic goo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ublic agenda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ublic poli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8. Community member who owes loyalty to the government and is entitled to protection from i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alien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immigr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citiz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tour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09-01T13:27:41Z</dcterms:modified>
  <cp:revision>114</cp:revision>
  <dc:subject/>
  <dc:title>D/O: TO EXPLAIN AND IDENTIFY PROBLEMS OF ECONOMICS</dc:title>
</cp:coreProperties>
</file>